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C1DE-8D58-403E-93D7-65EBD6082C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4685-F24D-431E-9E5C-DA20231DF5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A726-814E-44B4-A2EF-169D647127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1C4A-9649-4F88-B294-C7EE7DDE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2E81-8E5D-4285-886F-DF93B20D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7810-E0F7-413D-8A3A-D2F94E79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247A-3E62-448C-9285-4A667411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C55F-F8B9-4FD9-BF9F-6DF88479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118E-C71B-4B0B-8F3A-CD57D02A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E5E7-CACD-46E8-BC11-9F705457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A56C-2349-486C-9E7D-C17E57D8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7216-D07B-400F-9790-00FA29CD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2F31-EBE5-4349-A593-78C831D4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8651-F145-4539-A305-476D313A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282A-3B88-4112-8B72-72424DC4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C5F1-38C9-4D54-ADBF-48DEA663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0525-F8A5-48A3-B5C4-CF15C3A8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16B9-8B1B-4CC9-8F85-5D670FA7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FF43-26C6-4272-BF76-1DFF2052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97F8-5E5B-4F25-AA6E-6FB0701B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791D0-B644-4A57-B626-D282201E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F852C-C3AA-4CF0-9B6D-6F75F311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787DA-818E-478A-9FAF-1802511E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BEDED-BB2F-4298-9F38-A7801D88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C2831-60DC-4A26-A0E2-417D0D9F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2DE9-AAB9-43BF-9853-EE882D83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05BA9-AF72-4045-B5C6-8B972DA2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BC29B-75FC-46E7-91B9-548B926F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C305E-2C3C-47D5-9909-08A78C01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ED8DC-12A6-480F-BD4F-29FD0C6E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89125-E52F-463A-A12C-53CF586A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82DB6-56A3-46D2-A7B9-8762F2CB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E2295-D42F-4D8F-BD95-1A76F91D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14617-BC42-4D23-8D88-57A38461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7F36D-C90E-4787-8E5E-30ABBD9E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F23E2-9BC9-46ED-9F63-9670E5FD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ED5C-48AF-41C2-AF32-62ADC52F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1186F-0CEC-4B19-A4FD-26594B21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B87EF-F5F9-4F02-9DFC-525C870C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E5165-B35B-46EB-8835-C084107D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515AC-34F8-49D2-B839-759D3866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67193-9C00-495F-AAE3-A7DBB90D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9DC01-6982-4203-978D-54596338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B94FE-8758-4467-A006-2F6AFE04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DD68B-AA32-44BE-87F6-E5F0BCA0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5F5D1-FB5B-45FA-96AE-351C6915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98B0-60A5-40E2-808B-32125E3B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C5F8-9975-4559-929B-D2B691A1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2C4B-9EC6-4859-BF00-17BD3FF7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E1F1-0649-4F15-B6AC-76183E13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4976-8B81-42DF-98F9-45CFAD97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0560-89AD-43BD-A1CE-4BCC498E97BA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D26F-98D2-4526-A483-C158CAA4FC3E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EF8F-87CC-4C61-A795-5FC8177E5E03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D838-68BD-4D33-A0AD-C2B084D7DB14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hyperlink" Target="file:///&#1062;&#1072;&#1088;&#1077;&#1074;&#1072;%20&#1076;&#1086;&#1082;&#1083;.%20&#1055;&#1077;&#1088;&#1084;&#1100;%2024.03.2015.pptx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1" descr=""/>
          <p:cNvPicPr/>
          <p:nvPr/>
        </p:nvPicPr>
        <p:blipFill>
          <a:blip r:embed="rId1"/>
          <a:stretch/>
        </p:blipFill>
        <p:spPr>
          <a:xfrm>
            <a:off x="2728800" y="728640"/>
            <a:ext cx="36864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324000" y="342900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317520" y="560520"/>
            <a:ext cx="8393040" cy="70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468360" y="189000"/>
            <a:ext cx="7991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ДК 372.8:51(075.8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ББК 74.262.21я73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Ц181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 е ц е н з е н т ы — доктор педагогических наук, профессор, заведующий кафедры теории и методики обучения математике Омского государственного педагогического университета В.А. Далингер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доктор педагогических наук, профессор кафедры методики преподава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естественных наук Московского государственного областного гуманитарног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нститута В. Ф. Ефимов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pic>
        <p:nvPicPr>
          <p:cNvPr id="226" name="Текст 2" descr=""/>
          <p:cNvPicPr/>
          <p:nvPr/>
        </p:nvPicPr>
        <p:blipFill>
          <a:blip r:embed="rId2"/>
          <a:stretch/>
        </p:blipFill>
        <p:spPr>
          <a:xfrm>
            <a:off x="1316160" y="927000"/>
            <a:ext cx="7858080" cy="5473800"/>
          </a:xfrm>
          <a:prstGeom prst="rect">
            <a:avLst/>
          </a:prstGeom>
          <a:ln w="0">
            <a:noFill/>
          </a:ln>
        </p:spPr>
      </p:pic>
      <p:sp>
        <p:nvSpPr>
          <p:cNvPr id="227" name="Блок-схема: процесс 3">
            <a:hlinkClick r:id="rId3"/>
          </p:cNvPr>
          <p:cNvSpPr/>
          <p:nvPr/>
        </p:nvSpPr>
        <p:spPr>
          <a:xfrm>
            <a:off x="7740720" y="6597720"/>
            <a:ext cx="1187280" cy="260280"/>
          </a:xfrm>
          <a:prstGeom prst="flowChartProcess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1476360" y="7920"/>
            <a:ext cx="705636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1.4. Критерии, показатели и способы выявления профессиональной готовности к обучению математике младших школьников  ............................................................ 2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1.5. Организация и средства методической подготовки будущего учителя к обучению младших школьников математике ..........  3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1.5.1. Место методического курса в образовательной программе 3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1.5.2. Организация методической подготовки на уровне содержания .................................................................................. 3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1.5.3. Организация методической подготовки к обучению математике на уровне форм обучения ..................................... 37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1.5.4. Организация методической подготовки на уровне форм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контроля ...................................................................................... 4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1.6. Методика обучения математике как педагогическая наука ..44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1.6.1. Обоснование отнесения методики обучения математик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к науке ........................................................................................  44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1.6.2. Объект, предмет и методы исследования в методике обучения математике    .............................................................. 45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"/>
          <p:cNvSpPr/>
          <p:nvPr/>
        </p:nvSpPr>
        <p:spPr>
          <a:xfrm>
            <a:off x="539640" y="115920"/>
            <a:ext cx="705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Прямоугольник 2"/>
          <p:cNvSpPr/>
          <p:nvPr/>
        </p:nvSpPr>
        <p:spPr>
          <a:xfrm>
            <a:off x="216000" y="1341360"/>
            <a:ext cx="83167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Глава 2. Общая характеристика математического образования младших школьнико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.................. 5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Глава 3. Общие логико- математические основы в математическом образовании младших школьников 9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3.2. Комбинаторика в начальном обучении математике 104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3.2.3. Элементы комбинаторики как средство обучения математике  ………………………………………………. 107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3.3. Элементы комбинаторики, комбинаторные задачи как средство воспитания и развития ......................  110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3.4. Вероятностно- статистическая линия в начальном обучении математике ................................................... 114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3.5. Логическая составляющая математического образования младших школьников ............................. 12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1116000" y="1557360"/>
            <a:ext cx="7632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Глава 4. Формирование алгоритмической культуры младших школьников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................... 147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Глава 5. Задачи в начальном обучении математике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..................................................... 194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Глава 6. Величины и их изучение в начальной школе 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Глава 7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зучение чисел и арифметических действий в начальной школ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.......................... 321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826920" y="220500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Глава 8. Математические выражения, равенства, неравенства, уравнения и методика их изучения в начальной школе …………………….…………. 435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Глава 9. Геометрическое образование младших школьников .......................................................... 464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Прямоугольник 2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15:23:38Z</dcterms:created>
  <dc:creator>СЕ</dc:creator>
  <dc:description/>
  <dc:language>en-US</dc:language>
  <cp:lastModifiedBy>admin</cp:lastModifiedBy>
  <dcterms:modified xsi:type="dcterms:W3CDTF">2015-03-24T07:20:58Z</dcterms:modified>
  <cp:revision>20</cp:revision>
  <dc:subject/>
  <dc:title>Презентация PowerPoint</dc:title>
</cp:coreProperties>
</file>