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7EED-CA20-4F3A-9DD0-BFEFC25A90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50E0-A8B8-445A-82DF-A17BE99525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4C48-6658-4DC8-9919-DA0656899F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00F2-A820-4CD7-AE7F-D575414D94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35E-D85A-440F-8323-2D7AD53A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E29B-A91E-4A7A-8323-B3A9CE07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81EE-5EB4-4BAF-AE79-E01D6486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2C7-4585-4A31-8889-A5EAF71A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F000-92B8-4292-8B9A-58AB9692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0FE9-9D4B-4F4A-8676-E8760532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25C2-A999-46FC-8915-FDE38B72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636C-ACC0-4939-B766-1FAC84D2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50A9-7E56-482B-8391-997E5488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0165-7FE8-46EA-9784-E6044762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A5C4-5412-49FC-BFAB-E33EA904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E14-7DF6-4813-83D3-374FFFAD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6BE1-045C-4FE6-8B53-0F968218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B4E2-FD40-4776-91DC-427E61D2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ACA3-C3BA-4FE3-B23D-0E3C9D58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A30C-C7E6-4119-82DD-9110F6BD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2E89-F57D-4319-88B1-DFFBE066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35A18-56AD-4204-AF5E-53C5354F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A8E09-BBAF-437F-AC92-3E7FF83C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47F66-F0CB-45F8-B95C-DBCFFC4A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974D3-FCBD-49B3-AEC7-EA96ABF0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8643D-E24A-4E68-A5FE-61C77D13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18D-7F10-4AFF-893B-82D86635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87AFB-1790-41F7-BBDE-36D1E635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7A993-061A-44E5-B6C5-7FDD1916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895A2-5D94-4085-B022-45706418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81B72-0190-49C9-8BB1-C587A2F7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321F6-F92A-4647-86AC-AE38D917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C59A5-0BAC-47B7-84BF-C371A808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CCA03-A1A0-4A61-9826-7DB49C86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269FDA-CFEA-42DF-99F0-2D434DA8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E54910-1928-4E8E-A40F-6649BD8F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9D06C0-3154-4FEE-A063-5D04F3C2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50B3-0455-4D36-8CDA-7645CAEA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0F99B6-7EA1-4E4B-BCCB-04AD1511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18D237-0958-4FA7-9FE3-36CCC0E2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511BA9-E4A9-4B25-BA55-79387537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772EB6-BFE8-44AD-BAEF-6D9E3C78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661F4A-4A7A-4D8B-9CF4-6466AC31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F52ABA-088D-488A-8AB4-1B99034C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BBE24F-EFAE-4366-9A86-5F16F457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FB4AF5-4266-46A5-B41A-A73E0306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96D3DD-BAB9-4D13-A91A-55970AE1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BA8A3-C48C-4B3E-A6D0-6F77847B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12D-BC6F-471C-A2B2-C8343EE0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9C4738-E808-4183-9FAC-590217FE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F2C774-0015-4667-830C-1C83D1B5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E65A3-D998-4CA3-B6FA-93D0983A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E62EF9-3AA0-4BF2-8730-41D3C672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90E681-AAC4-47F7-A64E-36975DF8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65A290-47E5-4958-B289-BA373781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31CC4-0A39-41BF-8467-04C611D6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3479A-A092-4421-A6AE-5094EE7B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83D196-88F4-4B9A-AA92-E87075F5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98C72C-5AFF-40B0-811D-DDC4C371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FFF-CD30-4929-976F-C2853737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51169-9279-4BD4-8289-32F83961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367F2-C0B8-459B-B329-4C1E3732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E034A-2EAF-40C0-B07C-ADB69213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2BE7E-F65D-4454-8984-2165ECDB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0B693-95FE-452D-995D-141AA740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047C4-5B77-4DAE-9069-E1D8EFB7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85610-DCA5-4BFA-A9F7-8EC25FC6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1F4F3-F3C2-49F1-A0AB-95B2C4F2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B66A1-CD52-4D7E-BDD5-ED82A760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DEF8B-9DDC-46F8-8B37-85C7A74D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718-1893-4027-90A4-B427F37E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8FD6E-CAF0-4A6D-96A0-1A3743FB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61DE9-D100-4539-8211-A850F931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02383-5DDB-435C-9B32-96313DAB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31D0AE-A76C-4598-B5B0-1E9DC3C8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29CB1F-B786-404F-B595-9E9817BD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E9634E-D046-4130-949B-8A482C97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5BF3B6-08AC-43BC-8028-28299B87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221D5A-F28F-4DE1-A08C-02B0B70D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37CFB9-2045-4A1A-B805-C4E2EE57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36F2C6-97D4-48C8-855B-8A073D33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2265-EA04-477D-9FF4-2140E9BF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32CAC6-404E-420B-87E8-2B45554B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F17F0E-0D47-4ADC-9582-9ACC3816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AB06D6-1850-4A6A-AFE8-98C087CB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C4663A-2BC0-429A-AADB-F9DEEF7B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89F8F0-B73E-4EF0-8B78-47F93C70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B925B-CD46-4EB8-A197-153ED45C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854B5-F055-48C6-8E97-EC0E511D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C68B8-2226-492E-A6EF-0E1EE21D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29FB4-AD53-4B3C-9448-FAFE123C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22FF9-FF33-4E57-8B72-5A538596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571-25B1-4C71-80F8-AAE31FDA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1CB59-DD3B-4A96-A48C-849124AD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A7FA7-0F25-4E56-831F-976C1EED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3E943-B07C-4661-9F95-BB287CFF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2C76D-C726-4A50-A37C-94C34704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05C43-2AC4-41F5-8C8F-1EEB669B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B5CFA-31CC-4B92-83A8-ABDC262B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7A6F3-926A-4992-940D-AD316254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72C5-0670-4ECC-BDF2-01739F567B6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E1CB-B7FC-4E38-94F7-99C08B15DD9D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029B-885B-4FF7-ACA8-E90151D72D24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B5C2-DBE1-4B8C-AC13-4F25AC2E747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F933-7369-4ED5-971B-1ED5B0F37D5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BFB0-B90C-4C8C-9B36-5EF0A4ED31D5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A1C3-6A71-4096-8D75-571A8E53B938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4A5C-F5FA-46B4-BDEA-97BDC468E57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137440" cy="3168720"/>
          </a:xfrm>
          <a:prstGeom prst="rect">
            <a:avLst/>
          </a:prstGeom>
          <a:solidFill>
            <a:srgbClr val="bfd3e4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13e1b"/>
                </a:solidFill>
                <a:latin typeface="Calibri"/>
              </a:rPr>
              <a:t>Контрольно-измерительные  материалы </a:t>
            </a:r>
            <a:br>
              <a:rPr sz="3200"/>
            </a:br>
            <a:r>
              <a:rPr b="1" lang="ru-RU" sz="3200" spc="-1" strike="noStrike">
                <a:solidFill>
                  <a:srgbClr val="513e1b"/>
                </a:solidFill>
                <a:latin typeface="Calibri"/>
              </a:rPr>
              <a:t>для диагностики предметных результатов: </a:t>
            </a:r>
            <a:br>
              <a:rPr sz="3200"/>
            </a:br>
            <a:r>
              <a:rPr b="1" lang="ru-RU" sz="3200" spc="-1" strike="noStrike">
                <a:solidFill>
                  <a:srgbClr val="513e1b"/>
                </a:solidFill>
                <a:latin typeface="Calibri"/>
              </a:rPr>
              <a:t>проблемы разработки и внедрения</a:t>
            </a:r>
            <a:br>
              <a:rPr sz="3200"/>
            </a:br>
            <a:endParaRPr b="0" lang="en-US" sz="32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ПГГПУ  25 марта 201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1. Спецификация</a:t>
            </a:r>
            <a:br>
              <a:rPr sz="4000"/>
            </a:br>
            <a:r>
              <a:rPr b="0" lang="ru-RU" sz="2000" spc="-1" strike="noStrike">
                <a:solidFill>
                  <a:srgbClr val="775f55"/>
                </a:solidFill>
                <a:latin typeface="Calibri"/>
              </a:rPr>
              <a:t>(лат. specification перечисление особенностей чего-либо) </a:t>
            </a:r>
            <a:r>
              <a:rPr b="1" lang="ru-RU" sz="20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дробный план содержания КИМ и процедуры тестирова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пецификация включа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звани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цель те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дификатор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держание те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характеристику тестовых заданий по форме и уровню трудност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лгоритм формирования теста из тестовых заданий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авила оценки результатов тестирова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Название теста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ражает тип теста и название учебной дисциплин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Цель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ходного контроля – проверка уровня остаточных знаний по дисциплин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екущего контроля – проверка знаний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навыков по одной или нескольким темам учебной дисциплины, по одному раздел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тогового контроля –  проверка знаний и навыков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 всей учебной дисциплине в цел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Кодификатор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должен содержать  перечень элементов содержания учебного предмета, проверяемых данным тестом и может являться составной частью содерж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одержан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ста должно полно отражать содержание учебного предмета , соответствовать содержанию ФГОС и содержанию программы учебного  предме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этом разделе спецификации обычно перечисляю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разделы, темы и элементы содержания  учебного  предме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нтное (или иное) соотношение разделов или тем учебного предмета, представленных в тест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мера заданий по каждой те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ст может включать в себя базовую и вариативную части. Содержание базовой части должно полностью соответствовать содержанию ФГОС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сравнению с вариативной она должна занимать не менее 75% теста. Вариативная часть может состоять из более трудных заданий, ориентированных на более сильных учащихся, или из заданий, отражающих авторские особенности программы предме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Характеристика тестовых зада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план теста) - таблица, в которой указывается соответствие номера тестового задания разделу или теме учебной дисциплины, а также уровень трудности и форма предъявл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ы тестовых зада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дания закрытого типа с одним или несколькими правильными отве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дания с кратким регламентированным ответ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дания со свободно конструируемым ответ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дания открытого типа на установление соответ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дания открытого типа на установление правильной последова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лгоритм формиро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еста может быть строгим или случайны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использовании алгоритма строгой последовательности необходимо указать порядок следования тестовых зада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250560" y="259920"/>
            <a:ext cx="843588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Правила оценки тестовых заданий и тест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За выполнение каждого тестового задания испытуемому выставляются баллы. Необходимо указать тип используемой шкалы оценивания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Calibri"/>
              </a:rPr>
              <a:t>Номинальная шкала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едполагает, что за правильный ответ к каждому заданию выставляется один балл, за неправильный — ноль. В соответствии с номинальной шкалой, оценивается всё задание в целом, а не какая-либо из его часте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 заданиях с выбором нескольких верных ответов, заданиях на установление правильной последовательности, заданиях на установление соответствия, заданиях открытой формы можно использовать </a:t>
            </a:r>
            <a:r>
              <a:rPr b="0" i="1" lang="ru-RU" sz="2300" spc="-1" strike="noStrike">
                <a:solidFill>
                  <a:srgbClr val="000000"/>
                </a:solidFill>
                <a:latin typeface="Calibri"/>
              </a:rPr>
              <a:t>порядковую шкалу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. В этом случае баллы выставляются не за всё задание, а за тот или иной выбор в каждом задании, например, выбор варианта, выбор соответствия, выбор ранга, выбор дополнения. В соответствии с порядковой шкалой за каждое задание устанавливается максимальное количество баллов, например, три. Три балла выставляются за все верные выборы в одном задании, два балла - за одну ошибку, один - за две ошибки, ноль — за полностью неверный ответ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2. Инструкция для тестируемых</a:t>
            </a: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является обязательной составной частью теста. Она должна быт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роткой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нятной 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щей для всех испытуемых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нструкция даёт разъясн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к необходимо отвечать на задания теста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колько времени отводится на выполнение  теста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ип шкалы оценивания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комендации по порядку выполнения задани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47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Calibri"/>
              </a:rPr>
              <a:t>3. Требования к тестовым заданиям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50560" y="1915920"/>
            <a:ext cx="9001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оответствие требованиям ФГОС и учебной программ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оответствие количества тестовых заданий объему разделов и тем учебного предме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личие ТЗ различной тестовой формы и категорий труд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риентация ТЗ на получение однозначного заключен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ТЗ должно быть представлено в форме краткого суждения, сформулированного четко и исключающего неоднозначность поним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ТЗ должно быть однозначным и самообъясняющи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екомендуемое количество слов в задании не более 15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тексте не должно быть преднамеренных подсказок и сленга, а также оценочных суждений автора ТЗ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Picture 2" descr="&amp;Scy;&amp;vcy;&amp;ocy;&amp;bcy;&amp;ocy;&amp;dcy;&amp;ncy;&amp;ocy;&amp;KHcy;&amp;acy;&amp;bcy;&amp;rcy;"/>
          <p:cNvPicPr/>
          <p:nvPr/>
        </p:nvPicPr>
        <p:blipFill>
          <a:blip r:embed="rId1"/>
          <a:stretch/>
        </p:blipFill>
        <p:spPr>
          <a:xfrm>
            <a:off x="5645160" y="5122800"/>
            <a:ext cx="349884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Calibri"/>
              </a:rPr>
              <a:t>3. Требования к тестовым заданиям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8000" y="1600200"/>
            <a:ext cx="8297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по возможности, текст ТЗ не должен содержать сложноподчиненных конструкц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специфический признак (ключевое слово) выносится в начало ТЗ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не рекомендуется начинать ТЗ с предлога, союза, частицы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желательно применение различных форм представления ТЗ, в том числе графических (рисунков, схем, таблиц и пр.) и мультимедийных  (для компьютерного тестирования), если это обусловлено содержанием ТЗ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соблюдение единого стиля оформления ТЗ, входящих в один тест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личие композиции. Композиция включает в себя содержание задания, содержание и число ответов или место для ответ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75f55"/>
                </a:solidFill>
                <a:latin typeface="Calibri"/>
              </a:rPr>
              <a:t>Требования к формам ТЗ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78920" y="1484280"/>
            <a:ext cx="914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З может быть представлено в одной из стандартизованных фор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рытой (с выбором одного или нескольких заключений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крыто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установление правильной последовательност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установление соответств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&amp;Tcy;&amp;iecy;&amp;scy;&amp;tcy;&amp;ocy;&amp;vcy;&amp;ycy;&amp;iecy; &amp;zcy;&amp;acy;&amp;dcy;&amp;acy;&amp;ncy;&amp;icy;&amp;yacy; &amp;icy; &amp;kcy;&amp;lcy;&amp;yucy;&amp;chcy;&amp;icy; &amp;kcy; &amp;ncy;&amp;icy;&amp;mcy; 1 &amp;kcy;&amp;lcy;&amp;acy;&amp;scy;&amp;scy; - &amp;Bcy;&amp;ocy;&amp;lcy;&amp;softcy;&amp;shcy;&amp;ocy;&amp;jcy; &amp;acy;&amp;rcy;&amp;khcy;&amp;icy;&amp;vcy; &amp;ucy;&amp;chcy;&amp;iecy;&amp;bcy;&amp;ncy;&amp;icy;&amp;kcy;&amp;ocy;&amp;vcy;"/>
          <p:cNvPicPr/>
          <p:nvPr/>
        </p:nvPicPr>
        <p:blipFill>
          <a:blip r:embed="rId1"/>
          <a:stretch/>
        </p:blipFill>
        <p:spPr>
          <a:xfrm>
            <a:off x="2403360" y="3422520"/>
            <a:ext cx="6416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Calibri"/>
              </a:rPr>
              <a:t>Выбор формы ТЗ </a:t>
            </a: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зависит от того, какой </a:t>
            </a:r>
            <a:r>
              <a:rPr b="1" lang="ru-RU" sz="2800" spc="-1" strike="noStrike">
                <a:solidFill>
                  <a:srgbClr val="775f55"/>
                </a:solidFill>
                <a:latin typeface="Calibri"/>
              </a:rPr>
              <a:t>вид знаний </a:t>
            </a: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следует проверить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оцен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фактологических знаний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знаний конкретных фактов, названий, имён, дат, понятий) лучше использовать тестовые задания закрытой или открытой форм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ссоциативных знаний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знаний о взаимосвязи определений и фактов, авторов и их теорий, сущности и явления, о соотношении между различными предметами, законами, датами) - заданий на установление соответстви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цессуальных знаний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знаний правильной последовательности различных действий, процессов) - заданий на определение правильной последователь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Любой образовательный процесс сопровождается контролем полученных знаний. Особенно это характерно для школьного образова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2" descr="&amp;Ncy;&amp;ocy;&amp;vcy;&amp;ocy;&amp;scy;&amp;tcy;&amp;icy;: &amp;SHcy;&amp;kcy;&amp;ocy;&amp;lcy;&amp;softcy;&amp;ncy;&amp;ycy;&amp;iecy; &amp;pcy;&amp;rcy;&amp;iecy;&amp;dcy;&amp;mcy;&amp;iecy;&amp;tcy;&amp;ncy;&amp;ycy;&amp;iecy; &amp;ocy;&amp;lcy;&amp;icy;&amp;mcy;&amp;pcy;&amp;icy;&amp;acy;&amp;dcy;&amp;ycy; / &amp;Mcy;&amp;Bcy;&amp;Ocy;&amp;Ucy; &quot;&amp;Pcy;&amp;icy;&amp;tcy;&amp;icy;&amp;shcy;&amp;iecy;&amp;vcy;&amp;scy;&amp;kcy;&amp;acy;&amp;yacy; &amp;Scy;&amp;Ocy;&amp;SHcy;&quot; &amp;Acy;&amp;lcy;&amp;icy;&amp;kcy;&amp;ocy;&amp;vcy;&amp;scy;&amp;kcy;&amp;ocy;&amp;gcy;&amp;ocy; &amp;rcy;&amp;acy;&amp;jcy;&amp;ocy;&amp;ncy;&amp;acy; / &amp;Pcy;&amp;ocy;&amp;rcy;&amp;tcy;&amp;acy;&amp;lcy; &amp;ocy;&amp;bcy;&amp;rcy;&amp;acy;&amp;zcy;&amp;ocy;&amp;vcy;&amp;acy;&amp;ncy;&amp;icy;&amp;yacy; &amp;CHcy;&amp;Rcy;"/>
          <p:cNvPicPr/>
          <p:nvPr/>
        </p:nvPicPr>
        <p:blipFill>
          <a:blip r:embed="rId1"/>
          <a:stretch/>
        </p:blipFill>
        <p:spPr>
          <a:xfrm>
            <a:off x="3708360" y="3284640"/>
            <a:ext cx="39448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Форма предъявления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З влияет на его уровень трудности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амые легкие – задания закрытого типа с единичным выбором, так как направлены на воспроизведение имеющихся знаний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амая трудная форма ТЗ - на упорядочение и на соответствие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ткрытая форма, ТЗ закрытой формы с несколькими правильными ответами - ТЗ со средним уровнем сложност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Picture 2" descr="&amp;Ncy;&amp;acy;&amp;zcy;&amp;vcy;&amp;acy;&amp;ncy;&amp;icy;&amp;iecy; &amp;pcy;&amp;rcy;&amp;ocy;&amp;iecy;&amp;kcy;&amp;tcy;&amp;acy;"/>
          <p:cNvPicPr/>
          <p:nvPr/>
        </p:nvPicPr>
        <p:blipFill>
          <a:blip r:embed="rId1"/>
          <a:stretch/>
        </p:blipFill>
        <p:spPr>
          <a:xfrm>
            <a:off x="6751800" y="4076640"/>
            <a:ext cx="18936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4. Инструкция для проверяющих</a:t>
            </a: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является обязательной составной частью контролирующего тест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струкция предназначена преподавателям, которые должны проверить тест, не выдаётся тестируем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нструкция для проверяющих содержит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авила оценки ТЗ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авила оценки всего тест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люч к тесту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Picture 2" descr="keylineage2.a5.ru"/>
          <p:cNvPicPr/>
          <p:nvPr/>
        </p:nvPicPr>
        <p:blipFill>
          <a:blip r:embed="rId1"/>
          <a:stretch/>
        </p:blipFill>
        <p:spPr>
          <a:xfrm>
            <a:off x="6516720" y="4437000"/>
            <a:ext cx="21524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49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Calibri"/>
              </a:rPr>
              <a:t>Последовательность этапов создания </a:t>
            </a: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КИ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. Определение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целей тестировани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: текущий контроль (диагностика усвоения отдельных тем и разделов), итоговый контроль (по всей программе учебной дисциплины), контроль остаточных знаний (по одной дисциплине или по циклу дисциплин) и т.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. Анализ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содержани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учебной дисциплины,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систематизаци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материала, составление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структурно-логической схемы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дисциплин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 Разработка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таблиц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пецифик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4. Разработка (при необходимости) 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тезаурус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Разработка тестовых заданий -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создание банка тестовых заданий (БТЗ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2" descr="&amp;Ncy;&amp;acy;&amp;chcy;&amp;acy;&amp;lcy;&amp;softcy;&amp;ncy;&amp;ocy;&amp;iecy; &amp;ocy;&amp;bcy;&amp;rcy;&amp;acy;&amp;zcy;&amp;ocy;&amp;vcy;&amp;acy;&amp;ncy;&amp;icy;&amp;iecy; , &amp;ecy;&amp;lcy;&amp;icy;&amp;tcy;&amp;ncy;&amp;ycy;&amp;iecy; &amp;chcy;&amp;acy;&amp;scy;&amp;tcy;&amp;ncy;&amp;ycy;&amp;iecy; &amp;shcy;&amp;kcy;&amp;ocy;&amp;lcy;&amp;ycy;, &amp;zcy;&amp;acy;&amp;ocy; &amp;Mcy;&amp;ocy;&amp;scy;&amp;kcy;&amp;vcy;&amp;acy;."/>
          <p:cNvPicPr/>
          <p:nvPr/>
        </p:nvPicPr>
        <p:blipFill>
          <a:blip r:embed="rId1"/>
          <a:stretch/>
        </p:blipFill>
        <p:spPr>
          <a:xfrm>
            <a:off x="6975360" y="189000"/>
            <a:ext cx="201456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Calibri"/>
              </a:rPr>
              <a:t>Последовательность этапов создания </a:t>
            </a: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КИ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23640" y="1628640"/>
            <a:ext cx="8537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нализ содержания и формы ТЗ на соответствие спецификации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пределение и корректировка процентного соотношения ТЗ в БТЗ по форме и уровню труд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Формирование композиции тест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оответствие с целями. Определение объема и времени на выпол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Разработк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етодики тестирования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оставлени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шкалы оценки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пределени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иапазона оцен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Составлени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нструкц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ля тестируемых и проверяющ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пробация тест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результатам апробации вносятся корректировки для того, чтобы улучшить параметры те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Формирование окончательного варианта те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Picture 2" descr="&amp;Rcy;&amp;acy;&amp;zcy;&amp;dcy;&amp;iecy;&amp;lcy;&amp;ycy; &amp;ucy;&amp;chcy;&amp;iecy;&amp;bcy;&amp;ncy;&amp;ocy;&amp;jcy; &amp;pcy;&amp;rcy;&amp;ocy;&amp;gcy;&amp;rcy;&amp;acy;&amp;mcy;&amp;mcy;&amp;ycy; - &amp;Pcy;&amp;rcy;&amp;ocy;&amp;gcy;&amp;rcy;&amp;acy;&amp;mcy;&amp;mcy;&amp;ycy; - &amp;Kcy;&amp;acy;&amp;rcy;&amp;tcy;&amp;icy;&amp;ncy;&amp;kcy;&amp;icy; &amp;pcy;&amp;ocy; &amp;pcy;&amp;iecy;&amp;dcy;&amp;acy;&amp;gcy;&amp;ocy;&amp;gcy;&amp;icy;&amp;kcy;&amp;iecy;"/>
          <p:cNvPicPr/>
          <p:nvPr/>
        </p:nvPicPr>
        <p:blipFill>
          <a:blip r:embed="rId1"/>
          <a:stretch/>
        </p:blipFill>
        <p:spPr>
          <a:xfrm>
            <a:off x="6629400" y="4979880"/>
            <a:ext cx="2232000" cy="16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рактическая работ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Picture 2" descr="&amp;Acy;&amp;rcy;&amp;khcy;&amp;icy;&amp;vcy; &amp;ncy;&amp;ocy;&amp;vcy;&amp;ocy;&amp;scy;&amp;tcy;&amp;iecy;&amp;jcy;"/>
          <p:cNvPicPr/>
          <p:nvPr/>
        </p:nvPicPr>
        <p:blipFill>
          <a:blip r:embed="rId1"/>
          <a:stretch/>
        </p:blipFill>
        <p:spPr>
          <a:xfrm>
            <a:off x="3174840" y="2997360"/>
            <a:ext cx="2549520" cy="18000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" descr="&amp;SHcy;&amp;kcy;&amp;ocy;&amp;lcy;&amp;softcy;&amp;ncy;&amp;ycy;&amp;jcy; &amp;kcy;&amp;acy;&amp;lcy;&amp;iecy;&amp;jcy;&amp;dcy;&amp;ocy;&amp;scy;&amp;kcy;&amp;ocy;&amp;pcy; - &amp;Fcy;&amp;ocy;&amp;tcy;&amp;ocy;&amp;acy;&amp;lcy;&amp;softcy;&amp;bcy;&amp;ocy;&amp;mcy;&amp;ycy; - &amp;Ocy;&amp;fcy;&amp;icy;&amp;tscy;&amp;icy;&amp;acy;&amp;lcy;&amp;softcy;&amp;ncy;&amp;ycy;&amp;jcy; &amp;scy;&amp;acy;&amp;jcy;&amp;tcy; &amp;Lcy;&amp;acy;&amp;rcy;&amp;icy;&amp;scy;&amp;ycy; &amp;Ncy;&amp;icy;&amp;kcy;&amp;ocy;&amp;lcy;&amp;acy;&amp;iecy;&amp;vcy;&amp;ncy;&amp;ycy; &amp;Tcy;&amp;ocy;&amp;khcy;&amp;tcy;&amp;icy;&amp;iecy;&amp;vcy;&amp;ocy;&amp;jcy;"/>
          <p:cNvPicPr/>
          <p:nvPr/>
        </p:nvPicPr>
        <p:blipFill>
          <a:blip r:embed="rId2"/>
          <a:stretch/>
        </p:blipFill>
        <p:spPr>
          <a:xfrm>
            <a:off x="755640" y="4317840"/>
            <a:ext cx="2208240" cy="1656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6" descr="&quot;&amp;Icy;&amp;ncy;&amp;ncy;&amp;ocy;&amp;vcy;&amp;acy;&amp;tscy;&amp;icy;&amp;icy; &amp;kcy;&amp;acy;&amp;lcy;&amp;ucy;&amp;zhcy;&amp;scy;&amp;kcy;&amp;ocy;&amp;jcy; &amp;shcy;&amp;kcy;&amp;ocy;&amp;lcy;&amp;ycy;&quot; &amp;Ocy;&amp;fcy;&amp;icy;&amp;tscy;&amp;icy;&amp;acy;&amp;lcy;&amp;softcy;&amp;ncy;&amp;ycy;&amp;jcy; &amp;scy;&amp;acy;&amp;jcy;&amp;tcy; &amp;Gcy;&amp;ocy;&amp;rcy;&amp;ocy;&amp;dcy;&amp;scy;&amp;kcy;&amp;ocy;&amp;jcy; &amp;Ucy;&amp;pcy;&amp;rcy;&amp;acy;&amp;vcy;…"/>
          <p:cNvPicPr/>
          <p:nvPr/>
        </p:nvPicPr>
        <p:blipFill>
          <a:blip r:embed="rId3"/>
          <a:stretch/>
        </p:blipFill>
        <p:spPr>
          <a:xfrm>
            <a:off x="5711760" y="1844640"/>
            <a:ext cx="2881440" cy="18716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8" descr="&amp;Scy;&amp;kcy;&amp;acy;&amp;chcy;&amp;acy;&amp;tcy;&amp;softcy; &amp;kcy;&amp;ncy;&amp;icy;&amp;gcy;&amp;ucy;: &amp;Tcy;&amp;iecy;&amp;scy;&amp;tcy;&amp;ycy; &amp;zcy;&amp;acy; &amp;kcy;&amp;ucy;&amp;rcy;&amp;scy; &amp;ncy;&amp;acy;&amp;chcy;&amp;acy;&amp;lcy;&amp;softcy;&amp;ncy;&amp;ocy;&amp;jcy; &amp;shcy;&amp;kcy;&amp;ocy;&amp;lcy;&amp;ycy;. . 4-5 &amp;kcy;&amp;lcy;&amp;acy;&amp;scy;&amp;scy;&amp;ycy;: …"/>
          <p:cNvPicPr/>
          <p:nvPr/>
        </p:nvPicPr>
        <p:blipFill>
          <a:blip r:embed="rId4"/>
          <a:stretch/>
        </p:blipFill>
        <p:spPr>
          <a:xfrm>
            <a:off x="774720" y="1638360"/>
            <a:ext cx="8650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7000"/>
            <a:ext cx="9158400" cy="15699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6880" y="2349000"/>
            <a:ext cx="66578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4b6d2"/>
                </a:solidFill>
                <a:latin typeface="Calibri"/>
              </a:rPr>
              <a:t>ПОДХОДЫ  К ПРОВЕДЕНИЮ РАЗЛИЧНЫХ </a:t>
            </a:r>
            <a:br>
              <a:rPr sz="2400"/>
            </a:br>
            <a:r>
              <a:rPr b="1" lang="ru-RU" sz="2400" spc="-1" strike="noStrike">
                <a:solidFill>
                  <a:srgbClr val="94b6d2"/>
                </a:solidFill>
                <a:latin typeface="Calibri"/>
              </a:rPr>
              <a:t>ОЦЕНОЧНЫХ ПРОЦЕДУР ОЦЕНКИ КАЧЕСТВА ОБРАЗОВАНИЯ В СУБЪЕКТАХ РОССИЙСКОЙ ФЕДЕРАЦИИ И НА ФЕДЕРАЛЬНОМ УРОВНЕ</a:t>
            </a:r>
            <a:endParaRPr b="0" lang="en-US" sz="2400" spc="-1" strike="noStrike">
              <a:solidFill>
                <a:srgbClr val="ebddc3"/>
              </a:solidFill>
              <a:latin typeface="Calibri"/>
            </a:endParaRPr>
          </a:p>
        </p:txBody>
      </p:sp>
      <p:pic>
        <p:nvPicPr>
          <p:cNvPr id="364" name="Picture 4" descr="E:\rtc_prezent_png\rtc_01.png"/>
          <p:cNvPicPr/>
          <p:nvPr/>
        </p:nvPicPr>
        <p:blipFill>
          <a:blip r:embed="rId2"/>
          <a:stretch/>
        </p:blipFill>
        <p:spPr>
          <a:xfrm>
            <a:off x="7500960" y="254160"/>
            <a:ext cx="1463760" cy="96660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Прямоугольник 23"/>
          <p:cNvSpPr/>
          <p:nvPr/>
        </p:nvSpPr>
        <p:spPr>
          <a:xfrm>
            <a:off x="1060560" y="216000"/>
            <a:ext cx="64641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сероссийский семинар по вопросу формирования общероссийской системы оценки качества образ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0 октября 2013 года, г. Сара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Прямоугольник 8"/>
          <p:cNvSpPr/>
          <p:nvPr/>
        </p:nvSpPr>
        <p:spPr>
          <a:xfrm>
            <a:off x="900000" y="4487760"/>
            <a:ext cx="7056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0cba3"/>
                </a:solidFill>
                <a:latin typeface="Calibri"/>
              </a:rPr>
              <a:t>И.А. Вальдм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0cba3"/>
                </a:solidFill>
                <a:latin typeface="Calibri"/>
              </a:rPr>
              <a:t>зав. лабораторией  контроля и мониторинга в образовании ИУО РАО,</a:t>
            </a:r>
            <a:r>
              <a:rPr b="0" lang="en-US" sz="1800" spc="-1" strike="noStrike">
                <a:solidFill>
                  <a:srgbClr val="e0cba3"/>
                </a:solidFill>
                <a:latin typeface="Tw Cen MT"/>
              </a:rPr>
              <a:t> </a:t>
            </a:r>
            <a:r>
              <a:rPr b="0" lang="ru-RU" sz="1800" spc="-1" strike="noStrike">
                <a:solidFill>
                  <a:srgbClr val="e0cba3"/>
                </a:solidFill>
                <a:latin typeface="Calibri"/>
              </a:rPr>
              <a:t>директор Российского Тренингового центра ИУО РАО,</a:t>
            </a:r>
            <a:r>
              <a:rPr b="0" lang="en-US" sz="1800" spc="-1" strike="noStrike">
                <a:solidFill>
                  <a:srgbClr val="e0cba3"/>
                </a:solidFill>
                <a:latin typeface="Tw Cen MT"/>
              </a:rPr>
              <a:t> </a:t>
            </a:r>
            <a:r>
              <a:rPr b="0" lang="ru-RU" sz="1800" spc="-1" strike="noStrike">
                <a:solidFill>
                  <a:srgbClr val="e0cba3"/>
                </a:solidFill>
                <a:latin typeface="Calibri"/>
              </a:rPr>
              <a:t>к.п.н</a:t>
            </a:r>
            <a:r>
              <a:rPr b="0" lang="ru-RU" sz="1600" spc="-1" strike="noStrike">
                <a:solidFill>
                  <a:srgbClr val="59474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Picture 10" descr="img69119"/>
          <p:cNvPicPr/>
          <p:nvPr/>
        </p:nvPicPr>
        <p:blipFill>
          <a:blip r:embed="rId3"/>
          <a:stretch/>
        </p:blipFill>
        <p:spPr>
          <a:xfrm>
            <a:off x="8012160" y="4581360"/>
            <a:ext cx="592200" cy="93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logo"/>
          <p:cNvPicPr/>
          <p:nvPr/>
        </p:nvPicPr>
        <p:blipFill>
          <a:blip r:embed="rId4"/>
          <a:stretch/>
        </p:blipFill>
        <p:spPr>
          <a:xfrm>
            <a:off x="169920" y="264960"/>
            <a:ext cx="81756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7000"/>
            <a:ext cx="9158400" cy="156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-100080"/>
            <a:ext cx="90360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ЦЕДУРЫ ОЦЕНКИ ОБРАЗОВАТЕЛЬНЫХ ДОСТИЖЕНИЙ В РФ</a:t>
            </a:r>
            <a:endParaRPr b="0" lang="en-US" sz="2000" spc="-1" strike="noStrike">
              <a:solidFill>
                <a:srgbClr val="ebddc3"/>
              </a:solidFill>
              <a:latin typeface="Calibri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8000" y="750960"/>
          <a:ext cx="8959680" cy="3687840"/>
        </p:xfrm>
        <a:graphic>
          <a:graphicData uri="http://schemas.openxmlformats.org/drawingml/2006/table">
            <a:tbl>
              <a:tblPr/>
              <a:tblGrid>
                <a:gridCol w="2052720"/>
                <a:gridCol w="1763640"/>
                <a:gridCol w="3451320"/>
                <a:gridCol w="1692000"/>
              </a:tblGrid>
              <a:tr h="965160">
                <a:tc>
                  <a:txBody>
                    <a:bodyPr lIns="90000" rIns="90000" tIns="60840" bIns="60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за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пуск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60840" bIns="60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за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туп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60840" bIns="60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циона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ниторин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60840" bIns="60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ждунар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ав. исслед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722680">
                <a:tc>
                  <a:txBody>
                    <a:bodyPr lIns="90000" rIns="90000" tIns="60840" bIns="60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государственный экзамен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енная итоговая аттестац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60840" bIns="60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государственный экзамен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60840" bIns="60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тадии апробаци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товность к обучению в начальной школе (1 клас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ценка качества начального образования (4 клас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агностика читательской грамотности (5-9 класс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ИК-компетентности учащихся (9 клас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ISA, TIMSS, PIRLS, ICC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CILS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373" name="TextBox 2"/>
          <p:cNvSpPr/>
          <p:nvPr/>
        </p:nvSpPr>
        <p:spPr>
          <a:xfrm>
            <a:off x="4431240" y="436572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08000" y="4869000"/>
          <a:ext cx="8964720" cy="1544400"/>
        </p:xfrm>
        <a:graphic>
          <a:graphicData uri="http://schemas.openxmlformats.org/drawingml/2006/table">
            <a:tbl>
              <a:tblPr/>
              <a:tblGrid>
                <a:gridCol w="4481640"/>
                <a:gridCol w="4483080"/>
              </a:tblGrid>
              <a:tr h="447480">
                <a:tc gridSpan="2">
                  <a:txBody>
                    <a:bodyPr lIns="90000" rIns="90000" tIns="60840" bIns="60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 НА УРОВНЕ ШК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6920">
                <a:tc>
                  <a:txBody>
                    <a:bodyPr lIns="90000" rIns="90000" tIns="60840" bIns="60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классное оцени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много контроля, мало обратной связи,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«вычитательный» принцип оценива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60840" bIns="60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индивидуального прогресса (инициативные проекты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AM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льта, мониторинг обр. достижений в нач. школ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7000"/>
            <a:ext cx="9158400" cy="15699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9840" y="164880"/>
            <a:ext cx="896616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АММЫ ОЦЕНКИ ОБРАЗОВАТЕЛЬНЫХ ДОСТИЖЕНИЙ</a:t>
            </a:r>
            <a:endParaRPr b="0" lang="en-US" sz="2800" spc="-1" strike="noStrike">
              <a:solidFill>
                <a:srgbClr val="ebddc3"/>
              </a:solidFill>
              <a:latin typeface="Calibri"/>
            </a:endParaRPr>
          </a:p>
        </p:txBody>
      </p:sp>
      <p:grpSp>
        <p:nvGrpSpPr>
          <p:cNvPr id="377" name="Group 9"/>
          <p:cNvGrpSpPr/>
          <p:nvPr/>
        </p:nvGrpSpPr>
        <p:grpSpPr>
          <a:xfrm>
            <a:off x="2843280" y="1604880"/>
            <a:ext cx="3240000" cy="920520"/>
            <a:chOff x="2843280" y="1604880"/>
            <a:chExt cx="3240000" cy="920520"/>
          </a:xfrm>
        </p:grpSpPr>
        <p:sp>
          <p:nvSpPr>
            <p:cNvPr id="378" name="AutoShape 7"/>
            <p:cNvSpPr/>
            <p:nvPr/>
          </p:nvSpPr>
          <p:spPr>
            <a:xfrm>
              <a:off x="2843280" y="1604880"/>
              <a:ext cx="3240000" cy="92052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Rectangle 8"/>
            <p:cNvSpPr/>
            <p:nvPr/>
          </p:nvSpPr>
          <p:spPr>
            <a:xfrm>
              <a:off x="3045600" y="1650240"/>
              <a:ext cx="2835000" cy="7516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Виды программ оценк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0" name="Oval 11"/>
          <p:cNvSpPr/>
          <p:nvPr/>
        </p:nvSpPr>
        <p:spPr>
          <a:xfrm>
            <a:off x="1187280" y="278136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12"/>
          <p:cNvSpPr/>
          <p:nvPr/>
        </p:nvSpPr>
        <p:spPr>
          <a:xfrm>
            <a:off x="4143240" y="3117960"/>
            <a:ext cx="28764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13"/>
          <p:cNvSpPr/>
          <p:nvPr/>
        </p:nvSpPr>
        <p:spPr>
          <a:xfrm>
            <a:off x="7284960" y="2736720"/>
            <a:ext cx="2872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Line 14"/>
          <p:cNvSpPr/>
          <p:nvPr/>
        </p:nvSpPr>
        <p:spPr>
          <a:xfrm flipH="1">
            <a:off x="1692360" y="2274840"/>
            <a:ext cx="792000" cy="4334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Line 17"/>
          <p:cNvSpPr/>
          <p:nvPr/>
        </p:nvSpPr>
        <p:spPr>
          <a:xfrm>
            <a:off x="6443640" y="2274840"/>
            <a:ext cx="719280" cy="3621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Line 18"/>
          <p:cNvSpPr/>
          <p:nvPr/>
        </p:nvSpPr>
        <p:spPr>
          <a:xfrm flipH="1">
            <a:off x="4285800" y="2616120"/>
            <a:ext cx="71640" cy="4096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19"/>
          <p:cNvSpPr/>
          <p:nvPr/>
        </p:nvSpPr>
        <p:spPr>
          <a:xfrm>
            <a:off x="3132000" y="3346560"/>
            <a:ext cx="2374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осударствен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экзаме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20"/>
          <p:cNvSpPr/>
          <p:nvPr/>
        </p:nvSpPr>
        <p:spPr>
          <a:xfrm>
            <a:off x="179280" y="3213000"/>
            <a:ext cx="2374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Оценка на уровне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21"/>
          <p:cNvSpPr/>
          <p:nvPr/>
        </p:nvSpPr>
        <p:spPr>
          <a:xfrm>
            <a:off x="6157800" y="3346560"/>
            <a:ext cx="26622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Мониторингов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исслед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23"/>
          <p:cNvSpPr/>
          <p:nvPr/>
        </p:nvSpPr>
        <p:spPr>
          <a:xfrm>
            <a:off x="6229440" y="492912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Oval 24"/>
          <p:cNvSpPr/>
          <p:nvPr/>
        </p:nvSpPr>
        <p:spPr>
          <a:xfrm>
            <a:off x="4500720" y="492912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Oval 25"/>
          <p:cNvSpPr/>
          <p:nvPr/>
        </p:nvSpPr>
        <p:spPr>
          <a:xfrm>
            <a:off x="3060720" y="492912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Oval 26"/>
          <p:cNvSpPr/>
          <p:nvPr/>
        </p:nvSpPr>
        <p:spPr>
          <a:xfrm>
            <a:off x="179280" y="479592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Oval 27"/>
          <p:cNvSpPr/>
          <p:nvPr/>
        </p:nvSpPr>
        <p:spPr>
          <a:xfrm>
            <a:off x="8029440" y="492912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Oval 28"/>
          <p:cNvSpPr/>
          <p:nvPr/>
        </p:nvSpPr>
        <p:spPr>
          <a:xfrm>
            <a:off x="684360" y="4795920"/>
            <a:ext cx="287280" cy="290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Oval 29"/>
          <p:cNvSpPr/>
          <p:nvPr/>
        </p:nvSpPr>
        <p:spPr>
          <a:xfrm>
            <a:off x="1620720" y="479592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Oval 30"/>
          <p:cNvSpPr/>
          <p:nvPr/>
        </p:nvSpPr>
        <p:spPr>
          <a:xfrm>
            <a:off x="1116000" y="487044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Oval 31"/>
          <p:cNvSpPr/>
          <p:nvPr/>
        </p:nvSpPr>
        <p:spPr>
          <a:xfrm>
            <a:off x="1260360" y="487044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Oval 32"/>
          <p:cNvSpPr/>
          <p:nvPr/>
        </p:nvSpPr>
        <p:spPr>
          <a:xfrm>
            <a:off x="1405080" y="487044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34"/>
          <p:cNvSpPr/>
          <p:nvPr/>
        </p:nvSpPr>
        <p:spPr>
          <a:xfrm>
            <a:off x="5292720" y="5299200"/>
            <a:ext cx="2016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Национальны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мониторинг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36"/>
          <p:cNvSpPr/>
          <p:nvPr/>
        </p:nvSpPr>
        <p:spPr>
          <a:xfrm>
            <a:off x="3635280" y="5302080"/>
            <a:ext cx="1944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ступительны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Line 37"/>
          <p:cNvSpPr/>
          <p:nvPr/>
        </p:nvSpPr>
        <p:spPr>
          <a:xfrm>
            <a:off x="7883640" y="4210200"/>
            <a:ext cx="288720" cy="5745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Line 38"/>
          <p:cNvSpPr/>
          <p:nvPr/>
        </p:nvSpPr>
        <p:spPr>
          <a:xfrm flipH="1">
            <a:off x="6443280" y="4281480"/>
            <a:ext cx="289080" cy="5032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40"/>
          <p:cNvSpPr/>
          <p:nvPr/>
        </p:nvSpPr>
        <p:spPr>
          <a:xfrm>
            <a:off x="2629080" y="5302080"/>
            <a:ext cx="1222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пускны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Line 41"/>
          <p:cNvSpPr/>
          <p:nvPr/>
        </p:nvSpPr>
        <p:spPr>
          <a:xfrm flipH="1">
            <a:off x="3348000" y="4137120"/>
            <a:ext cx="287280" cy="5760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Line 45"/>
          <p:cNvSpPr/>
          <p:nvPr/>
        </p:nvSpPr>
        <p:spPr>
          <a:xfrm flipH="1">
            <a:off x="1762200" y="3932280"/>
            <a:ext cx="1440" cy="6476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Line 46"/>
          <p:cNvSpPr/>
          <p:nvPr/>
        </p:nvSpPr>
        <p:spPr>
          <a:xfrm flipH="1">
            <a:off x="324000" y="4003560"/>
            <a:ext cx="287280" cy="5763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Line 47"/>
          <p:cNvSpPr/>
          <p:nvPr/>
        </p:nvSpPr>
        <p:spPr>
          <a:xfrm flipH="1">
            <a:off x="826560" y="4003560"/>
            <a:ext cx="289080" cy="5763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9"/>
          <p:cNvSpPr/>
          <p:nvPr/>
        </p:nvSpPr>
        <p:spPr>
          <a:xfrm rot="10800000">
            <a:off x="69480" y="5132520"/>
            <a:ext cx="39348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50"/>
          <p:cNvSpPr/>
          <p:nvPr/>
        </p:nvSpPr>
        <p:spPr>
          <a:xfrm rot="10800000">
            <a:off x="572760" y="5227560"/>
            <a:ext cx="39348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с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 Box 51"/>
          <p:cNvSpPr/>
          <p:nvPr/>
        </p:nvSpPr>
        <p:spPr>
          <a:xfrm rot="10800000">
            <a:off x="1525320" y="4844880"/>
            <a:ext cx="3628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35"/>
          <p:cNvSpPr/>
          <p:nvPr/>
        </p:nvSpPr>
        <p:spPr>
          <a:xfrm>
            <a:off x="7056360" y="5310360"/>
            <a:ext cx="219564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Международны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сравнительны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исслед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Line 41"/>
          <p:cNvSpPr/>
          <p:nvPr/>
        </p:nvSpPr>
        <p:spPr>
          <a:xfrm>
            <a:off x="4535640" y="4133880"/>
            <a:ext cx="90360" cy="6508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Oval 28"/>
          <p:cNvSpPr/>
          <p:nvPr/>
        </p:nvSpPr>
        <p:spPr>
          <a:xfrm>
            <a:off x="2197080" y="4802040"/>
            <a:ext cx="287280" cy="290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Line 45"/>
          <p:cNvSpPr/>
          <p:nvPr/>
        </p:nvSpPr>
        <p:spPr>
          <a:xfrm>
            <a:off x="2050920" y="3951360"/>
            <a:ext cx="250920" cy="6476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50"/>
          <p:cNvSpPr/>
          <p:nvPr/>
        </p:nvSpPr>
        <p:spPr>
          <a:xfrm rot="10800000">
            <a:off x="2045880" y="5132160"/>
            <a:ext cx="54540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е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КИМ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Контрольно-измерительные материалы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- измерительное средство, представляющее собой стандартизированную систему заданий, позволяющее надежно и объективно оценить уровень достижений испытуемых и выразить результат в числовом эквиваленте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иды КИМ: оценочные материалы, тесты, комплексные работы и др.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требования к контрольно-измерительным материалам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78920" y="1267920"/>
            <a:ext cx="9217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ность в работе заданий из всех разделов программы по математике/русскому язы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ение заданий на самооцен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сте располагаются сначала сложные задания, а потом лег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заданий двух уровней сложности – базового и повышенног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онализация (пооперационный контрол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задания должны быть типов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ние практико-ориентированных заданий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заданий должны заполняться бла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 разного типа (по условиям нахождения и записи ответ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пецифик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 могут иметь неоднозначный результат выпол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змерения предметных и некоторых метапредметных результат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 самоконтроля и самопровер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альное оцени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производится учителем субъектив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 и базового, и повышенного  уровня соответствуют уровню достижений учащихся из раздела «Выпускник научит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должны затрачивать на выполнение задания не более 30 секун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задания теста должны быть закрытыми с выбором одного отве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заданий должна быть краткой, ясной, однозначно понимаем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быть предусмотрено компьютерное тест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 должны отражать те умения, которыми дети хорошо владе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 повышенного уровня соответствуют уровню достижений учащихся из раздела «Выпускник получит возможность научить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КИМов не обязательно входят оценочные материалы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Требования к контрольно-измерительным материалам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79280" y="1483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ленность в работе заданий из всех разделов программы по математике/русскому язык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заданий двух уровней сложности – базового и повышенного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ерационализация (пооперационный контроль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обладание практико-ориентированных заданий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ния разного типа (по условиям нахождения и записи ответа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спецификаци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ость измерения предметных и некоторых метапредметных результат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териальное оцени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ния и базового, и повышенного  уровня соответствуют уровню достижений учащихся из раздела «Выпускник научитс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и должны затрачивать на выполнение задания не более 30 секун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задания теста должны быть закрытыми с выбором одного отве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улировка заданий должна быть краткой, ясной, однозначно понимаемо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лжно быть предусмотрено компьютерное тестиро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Требования к структуре КИМ </a:t>
            </a:r>
            <a:br>
              <a:rPr sz="4000"/>
            </a:br>
            <a:r>
              <a:rPr b="1" lang="ru-RU" sz="2400" spc="-1" strike="noStrike">
                <a:solidFill>
                  <a:srgbClr val="775f55"/>
                </a:solidFill>
                <a:latin typeface="Calibri"/>
              </a:rPr>
              <a:t>(на примере теста) 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. Спецификация тест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. Инструкция для тестируемых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3. Основной текст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4. Инструкция для проверяющи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7T04:12:15Z</dcterms:created>
  <dc:creator>Пользователь</dc:creator>
  <dc:description/>
  <dc:language>en-US</dc:language>
  <cp:lastModifiedBy>User</cp:lastModifiedBy>
  <dcterms:modified xsi:type="dcterms:W3CDTF">2015-03-25T05:12:37Z</dcterms:modified>
  <cp:revision>16</cp:revision>
  <dc:subject/>
  <dc:title>РАЗРАБОТКА КОНТРОЛЬНО-ИЗМЕРИТЕЛЬНЫХ МАТЕРИАЛОВ НОВОГО ПОКОЛЕНИЯ: РУССКИЙ ЯЗЫК, ЛИТЕРТАУРНОЕ ЧТЕНИЕ</dc:title>
</cp:coreProperties>
</file>