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FB8C-A04A-4DDB-BF3C-B3244125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4CAB-73F1-4F18-82F9-73591276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BDA4-4926-4C95-AF33-A29FA6B7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30E0-5FE3-45C7-B398-C82DE77B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7E3C-CED1-4E07-88FC-8CEA95D1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4CEB-C149-4A08-950F-7F113111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2BC2-F302-4CD3-8357-7D983AE0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9D40-DFB9-4DBB-AAF3-33220791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16A8-C356-45F3-9683-6894B9B5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1A2C-CD5D-4280-A124-5B18C58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2D02-52B9-475C-8131-FCB4F9C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5263-D8EC-43A5-A126-E8ABB421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3443-9AD3-4775-B87B-2872836D02C1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853272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3232"/>
                </a:solidFill>
                <a:latin typeface="Cambria"/>
              </a:rPr>
              <a:t>Основы конструирования контрольно-оценочного инструментария по достижению образовательных результатов</a:t>
            </a: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000" y="5444640"/>
            <a:ext cx="4427640" cy="7923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Женина Лариса Викторо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и.н., доцент ,  ПГГПУ,  г. Перм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23232"/>
                </a:solidFill>
                <a:latin typeface="Cambria"/>
              </a:rPr>
              <a:t>Контрольно-оценочное действие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93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конструировании оценочного инструментария необходимо видеть контрольно-оценочное действие, (как фрагмент целостной системы учебной деятельности или деятельность в миниатюр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ическое наблю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и выстраивания обратной свя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оценочной самостоятельности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23232"/>
                </a:solidFill>
                <a:latin typeface="Cambria"/>
              </a:rPr>
              <a:t>Контрольно-оценочное действие: элементы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108000" y="1599840"/>
            <a:ext cx="925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ктивный и самостоятельный </a:t>
            </a: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субъект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рченный  в сознании субъек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объект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я сам, процесс и результат моей деятельности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предмет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к наиболее значимое в данном контексте деятельности (проблемное) содержание объекта (мои конкретные умения, способности, знания, личностные качества – их уровень и достаточность для решения поставленной задачи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целеполаг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нять, что и каким образом мне следует откорректировать в себе и своей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способы и инструментар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осуществления оценива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деятельностные единицы содержания, задачи и задания, системы критериев, шкалы, оценочные листы, рефлексивные листы и т.д. (выбираются или создаются учителем и учеником совместно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процеду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временные и пространственные услов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ход на проблему и зону ближайшего развития субъ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23232"/>
                </a:solidFill>
                <a:latin typeface="Cambria"/>
              </a:rPr>
              <a:t>Деятельностная единица содержания: знания + способы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1599840"/>
            <a:ext cx="889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раивание нового инструментария должно осуществляться вокруг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ятельностной единицы содерж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ак основы ситуации учения-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тижение образовательных результатов осуществляется в процесс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местной деятельности учителя и ученика вокруг данной единицы содержа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флексивное взаимопоглащение субъектов обуч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троенности контрольно-оценочных процедур в этот процесс,  а не «схоластическая» приставка к нему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23232"/>
                </a:solidFill>
                <a:latin typeface="Cambria"/>
              </a:rPr>
              <a:t>Требования к разработке инструментария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Включение в учебную деятельность школьников (включаться в ее контекст без внешнего административного влия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Преимущество должно отдаваться действиям самоконтроля и самооценки учащихся и контролю учителя за формированием этих действий у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Инструментарий должен способствовать осмысленным действиям ребенка по своему самоизменению и самосовершенствован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Предельно индивидуализирован, направлен на отслеживание динамики роста учащегося, относительно его личных достиж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Инструментарий по  контролю и оценке должен проводиться исключительно в целях диагностики и выявления уровня развития знаний, способностей, мышления, установления трудностей ребенка, прогноза и коррекционно-педагогических мероприя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ак, в соответствии с тенденциями образования требуется не инструмент формального измерения, а разработка инструментария иного рода, встроенного в «деятельностный контекст» образовательного процесса, в конструируемую социальную среду развития ребенка. Необходим инструментарий, который, прежде всего, работает на развитие способностей ученика и одновременно диагностирует рост в каждом конкретном случа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ambria"/>
              </a:rPr>
              <a:t>Оценивание как основание для формирования среды развития обучающихся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1628640"/>
            <a:ext cx="849636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снове Стандарта лежит системно-деятельностный подход, который обеспечивает: формирование готовности к саморазвитию …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ектированию 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нструированию социальной среды развития обучающихся в системе образова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4500720" y="5445000"/>
            <a:ext cx="4643280" cy="72072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ГОС  ОО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4"/>
          <p:cNvSpPr/>
          <p:nvPr/>
        </p:nvSpPr>
        <p:spPr>
          <a:xfrm>
            <a:off x="7380360" y="476280"/>
            <a:ext cx="1512720" cy="129708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ambria"/>
              </a:rPr>
              <a:t>Базовые начала для оценивания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1628640"/>
            <a:ext cx="849636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4500720" y="5445000"/>
            <a:ext cx="4643280" cy="72072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ГОС  ОО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6821640" y="115920"/>
            <a:ext cx="1512720" cy="129708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6360" y="1628640"/>
            <a:ext cx="856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новые базовые начала для оценивания, закрепленные ФГОС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система оценки – инструментальное ядро стандар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       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ценка результатов общего образования: предметных, метапредметных и личностн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      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риентация оценки на 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      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омплексный подход к  оценке результатов образова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;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      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«встроенность» оценивания в образовательный процесс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      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оценка индивидуального прогресса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ambria"/>
              </a:rPr>
              <a:t>Инструментарий для  контрольно-оценочной деятельности  </a:t>
            </a:r>
            <a:br>
              <a:rPr sz="3200"/>
            </a:b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2420640"/>
            <a:ext cx="81356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имание того, что контроль и оценка – это не отдельные эпизоды в процессе учения-обучения, а специфическая линия деятельности и учителя, и ученика, пронизывающая всю учебную деятельност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203640" y="5445000"/>
            <a:ext cx="5959440" cy="7556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ин из базовых принципов для разработки инструментария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4"/>
          <p:cNvSpPr/>
          <p:nvPr/>
        </p:nvSpPr>
        <p:spPr>
          <a:xfrm>
            <a:off x="7380360" y="476280"/>
            <a:ext cx="1512720" cy="129708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ambria"/>
              </a:rPr>
              <a:t>Контроль и оценка как деятельность подразумевает: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628640"/>
            <a:ext cx="8208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мыслен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ивирован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енаправлен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своих способов и инструмент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зультативность ( не показатель, а результа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рекция и «новый виток» деятельности по преобразованию себ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203640" y="5445000"/>
            <a:ext cx="5959440" cy="7556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лагаемые контрольно- оценоч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4"/>
          <p:cNvSpPr/>
          <p:nvPr/>
        </p:nvSpPr>
        <p:spPr>
          <a:xfrm>
            <a:off x="7380360" y="476280"/>
            <a:ext cx="1512720" cy="129708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5160" y="34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ambria"/>
              </a:rPr>
              <a:t>Контрольно-оценочная деятельность осуществляется по отношению к другим способам действия (операциям, действиям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0240" y="1413000"/>
            <a:ext cx="52912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троль - систем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ских действ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 правильностью и полнотой выполнения операций, входящих в состав способа действия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операционный и рефлексивный контрол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тро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агностирует и корректиру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116000" y="5445000"/>
            <a:ext cx="8047080" cy="7556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новной единицей  деятельности являются действия. Действия складываются из целого ряда операц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4"/>
          <p:cNvSpPr/>
          <p:nvPr/>
        </p:nvSpPr>
        <p:spPr>
          <a:xfrm>
            <a:off x="5138640" y="2060640"/>
            <a:ext cx="3465720" cy="78876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ятельность на уро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&amp;Mcy;&amp;acy;&amp;scy;&amp;tcy;&amp;iecy;&amp;rcy; &amp;kcy;&amp;lcy;&amp;acy;&amp;scy;&amp;scy; &amp;pcy;&amp;ocy; &amp;icy;&amp;zcy;&amp;gcy;&amp;ocy;&amp;tcy;&amp;ocy;&amp;vcy;&amp;lcy;&amp;iecy;&amp;ncy;&amp;icy;&amp;yucy; &amp;ncy;&amp;ocy;&amp;vcy;&amp;ocy;&amp;gcy;&amp;ocy;&amp;dcy;&amp;ncy;&amp;icy;&amp;khcy; &amp;ocy;&amp;tcy;&amp;kcy;&amp;rcy;&amp;ycy;&amp;tcy;&amp;ocy;&amp;kcy;"/>
          <p:cNvPicPr/>
          <p:nvPr/>
        </p:nvPicPr>
        <p:blipFill>
          <a:blip r:embed="rId1"/>
          <a:stretch/>
        </p:blipFill>
        <p:spPr>
          <a:xfrm>
            <a:off x="5126040" y="2852640"/>
            <a:ext cx="31910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34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ambria"/>
              </a:rPr>
              <a:t>Контрольно-оценочная деятельность осуществляется по отношению к другим способам действия (операциям, действиям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0240" y="1413000"/>
            <a:ext cx="52912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ка призвана определ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тепень освоения способа действия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флексивная форма оценк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продвижение относительно уже освоенного уровня способа действия.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ностическая форма оценк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116000" y="5445000"/>
            <a:ext cx="8047080" cy="7556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новной единицей  деятельности являются действия. Действия складываются из целого ряда операц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4"/>
          <p:cNvSpPr/>
          <p:nvPr/>
        </p:nvSpPr>
        <p:spPr>
          <a:xfrm>
            <a:off x="5138640" y="2060640"/>
            <a:ext cx="3465720" cy="78876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ятельность на уро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&amp;Mcy;&amp;acy;&amp;scy;&amp;tcy;&amp;iecy;&amp;rcy; &amp;kcy;&amp;lcy;&amp;acy;&amp;scy;&amp;scy; &amp;pcy;&amp;ocy; &amp;icy;&amp;zcy;&amp;gcy;&amp;ocy;&amp;tcy;&amp;ocy;&amp;vcy;&amp;lcy;&amp;iecy;&amp;ncy;&amp;icy;&amp;yucy; &amp;ncy;&amp;ocy;&amp;vcy;&amp;ocy;&amp;gcy;&amp;ocy;&amp;dcy;&amp;ncy;&amp;icy;&amp;khcy; &amp;ocy;&amp;tcy;&amp;kcy;&amp;rcy;&amp;ycy;&amp;tcy;&amp;ocy;&amp;kcy;"/>
          <p:cNvPicPr/>
          <p:nvPr/>
        </p:nvPicPr>
        <p:blipFill>
          <a:blip r:embed="rId1"/>
          <a:stretch/>
        </p:blipFill>
        <p:spPr>
          <a:xfrm>
            <a:off x="5126040" y="2852640"/>
            <a:ext cx="31910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40" y="260280"/>
            <a:ext cx="837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ambria"/>
              </a:rPr>
              <a:t>Контрольно-оценочная деятельность как метапредметный результат </a:t>
            </a:r>
            <a:br>
              <a:rPr sz="3200"/>
            </a:br>
            <a:r>
              <a:rPr b="0" lang="ru-RU" sz="3200" spc="-1" strike="noStrike">
                <a:solidFill>
                  <a:srgbClr val="323232"/>
                </a:solidFill>
                <a:latin typeface="Cambria"/>
              </a:rPr>
              <a:t>(регулятивный блок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5796000" y="292428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179280" y="1628640"/>
            <a:ext cx="8713800" cy="5229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  умение самостоятельно определять цели своего обучения, ставить и формулировать для себя новые задачи в учёбе и познавательной деятельности, развивать мотивы и интересы своей познавательной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 умение самостоятельно планировать пути  достижения целей,  в том числе альтернативные,  осознанно выбирать  наиболее эффективные способы решения учебных и познавательных задач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 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  действий в рамках предложенных условий и требований, корректировать свои действия в соответствии с изменяющейся ситуаци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умение оценивать правильность выполнения учебной задачи,  собственные возможности её реш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5) владение основами самоконтроля, самооценки, принятия решений и осуществления осознанного выбора в учебной и познавательной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хема 3" descr=""/>
          <p:cNvPicPr/>
          <p:nvPr/>
        </p:nvPicPr>
        <p:blipFill>
          <a:blip r:embed="rId1"/>
          <a:stretch/>
        </p:blipFill>
        <p:spPr>
          <a:xfrm>
            <a:off x="0" y="1474920"/>
            <a:ext cx="9144000" cy="5535360"/>
          </a:xfrm>
          <a:prstGeom prst="rect">
            <a:avLst/>
          </a:prstGeom>
          <a:ln w="0">
            <a:noFill/>
          </a:ln>
        </p:spPr>
      </p:pic>
      <p:sp>
        <p:nvSpPr>
          <p:cNvPr id="76" name="Овал 4"/>
          <p:cNvSpPr/>
          <p:nvPr/>
        </p:nvSpPr>
        <p:spPr>
          <a:xfrm>
            <a:off x="0" y="1628640"/>
            <a:ext cx="3564000" cy="96372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рефлексированные способы контрольно- оценоч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7"/>
          <p:cNvSpPr/>
          <p:nvPr/>
        </p:nvSpPr>
        <p:spPr>
          <a:xfrm>
            <a:off x="6300720" y="333360"/>
            <a:ext cx="3059280" cy="129528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зультаты, достигнутые субъектом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Cambria"/>
              </a:rPr>
              <a:t>В педагогических измерениях различают три уровня результатов образования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               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08000" y="5013360"/>
            <a:ext cx="8280360" cy="18446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вый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ровень – планируемы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т, который заложен в государственных образовательных стандартах и реализован в учебниках и методических пособиях. ( Требования к результат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177840" y="2533680"/>
            <a:ext cx="8137440" cy="249552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торой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ровень – реализуем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арактеризует те результаты, к которым стремится учитель, – в зависимости от своих личностных установок, отношения к предмету, профессиональной квалификации.( декомпозиция результатов  по  универсальным у. действиям. Представлена в рабочих программ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1614600" y="1079640"/>
            <a:ext cx="5184720" cy="153036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Третий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ровень – достигнутый,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ровень реальных достижений учащихся (фиксируемый уровень достижения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7"/>
          <p:cNvSpPr/>
          <p:nvPr/>
        </p:nvSpPr>
        <p:spPr>
          <a:xfrm>
            <a:off x="6832440" y="6237360"/>
            <a:ext cx="1555920" cy="62064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нешнее оцени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8"/>
          <p:cNvSpPr/>
          <p:nvPr/>
        </p:nvSpPr>
        <p:spPr>
          <a:xfrm>
            <a:off x="6588000" y="4702320"/>
            <a:ext cx="1555920" cy="62064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нутренн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цени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5992920" y="2206800"/>
            <a:ext cx="1555560" cy="62064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амооцени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7:06:25Z</dcterms:created>
  <dc:creator>Лариса</dc:creator>
  <dc:description/>
  <dc:language>en-US</dc:language>
  <cp:lastModifiedBy>Пользователь</cp:lastModifiedBy>
  <dcterms:modified xsi:type="dcterms:W3CDTF">2015-03-23T16:06:47Z</dcterms:modified>
  <cp:revision>20</cp:revision>
  <dc:subject/>
  <dc:title>Базовые принципы разработки оценочного инструментария для достижения образовательных результатов в свете ФГОС.</dc:title>
</cp:coreProperties>
</file>